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943-5FF1-4A0E-A74F-8DE99E57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C9C-CA66-4D51-8733-0A5AD488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51C-1DA6-4F63-A165-84D553A9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D56-1185-45D9-8BC8-0B294C02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37BB-3FF0-4C17-9458-4391CCE1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8F48-77DB-46AB-AEBF-CDE4BFC4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3237-6FC7-4B65-B045-34920FB5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7025-176B-4313-A9B5-83DDDCEB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71A9-5501-48EB-BE6A-56366337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48E3-0D7D-4E19-9B84-3E674177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C941-ADB1-4AC9-BB8C-6526E809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ED1-8643-421F-955C-12B57333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F2F3-4936-4477-B8ED-A9E269B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A6B4-C239-492D-9815-0878F55D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5827-3B77-458C-9BA7-64D33B24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9B91-D69A-4465-80A2-421C5FF7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824E-67F7-434A-B13A-187B6A6B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BCE-8606-4C74-A426-5CCA2270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99B-7827-4348-9B50-3D8C0899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4A5-87F0-43E1-AE37-E27AC049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6B9-855F-467E-9F92-F8E93298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988-9F39-44D3-BE31-83C5B7AA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1BC-771B-4EC8-B2FE-48F8F016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FEF-754B-4112-AD59-5FA45FC6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E9E2-4300-41ED-9F2D-310970D5E1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3C76-C225-4C0B-AC1E-72ABD33F41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ПРАВЉАЊЕ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ТРОШКОВИМ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организациј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фикација дуплираних послова, документовање стања (систематизација) и елиминациј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клађивање величине организације и броја запосле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асно дефинисање надлежности и одговорности да би се повећала ефикасн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и јасне описе по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ођење информационог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финансиј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ја непотребних машина, опреме и материј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најмљивање простора који није у употреби за обављање актив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жити убрзању пословних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људским ресурси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ионалан избор (селекција) запослених и менаџмен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иденција радног време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ањивање флуктуа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ањивање изостанака са пос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ћање продуктивности кроз обуку запослен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њивање радног учинка и награђивање запослених у складу са перформанс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Систематски приступ управљања трошковима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ин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џетирање активн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љање циљева и мерење одступањ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ирање извештаја о успешности смањења трош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Arial"/>
              </a:rPr>
              <a:t>Идентификација кључних актив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је потребно спровести у рационализацији трошк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дентификација полазних тачака за смањење трошк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ипрема одговарајућих ме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Формулисање мера тако да буду применљи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оследна примена м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Модел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ACE</a:t>
            </a: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 анализ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за рационализацију трошк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ан систем фактора и индикат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онализован поступ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љиви фактори и индикато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дизовани формулари за прикупљање подата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асна и једноставна упут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твер који подржава анализ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нице за тумачење резулт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ки приказ погодан за презентацију и тумаче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Анализа трош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ложност утицај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 се утицати (краткорочно, средњерочно, дугорочно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же се утицати (барем краткороч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иљ је подела трошкова 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требне трошков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е који се могу избећ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е који се могу снизи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шкове који се могу одлож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ff"/>
                </a:solidFill>
                <a:latin typeface="Arial"/>
              </a:rPr>
              <a:t>Утврђивање 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једностављење послова и процес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зивање са сличним задаци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ћана употреба машина и апар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ишћење услуга других фирми које то ефикасније обављај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изација транспортних путева и периода складишт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а бољих метода и технологогија у радном процес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ћање коришћења капацит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ћање радног учинка кроз обуку запосле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Спровођење 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сање свих запослених који су обухваћени мер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авка и инсталација опреме и уређаја и одговарајућег софтв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према средстава за р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љање временских рокова и одговорних л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упљање и обрада података на рачунару у одговарајућем софт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извршењу услуг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једностављивање услуга да би се брже обављ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јање више услуга да би се добило на време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дизовање услуг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треба једноставних и практичних материј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отреба савремених помоћних инструмен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набавц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фикација свих релевантних добављача и израда ба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а организација јавних набав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слене укључити у процес набавке у домену њиховог ра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говори са добављачима како би се идентфиковали нови производи и услуге који су трошковно ефикасн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времено наручив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ационализација трошков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Рационализација у набавц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фикација свих релевантних добављача и израда ба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а организација јавних набав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слене укључити у процес набавке у домену њиховог ра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говори са добављачима како би се идентфиковали нови производи и услуге који су трошковно ефикасн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љање залих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01:57:32Z</dcterms:modified>
  <cp:revision>178</cp:revision>
  <dc:subject/>
  <dc:title>Soft and Hard Skills Development: A Current Situation in Serbian Companies</dc:title>
</cp:coreProperties>
</file>